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A1C-6B23-4145-83C4-7AA3EC78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0F0-3EB1-4AFB-B688-2686D91A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029-3735-4B50-BE9E-5242F7D8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24D-706D-4089-861F-040CF658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CB35-A49E-4059-B5F0-6667984B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B55F-BFB8-42B8-9479-9D37B9C7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4D2C-52C8-4765-9D1F-F4574AB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D1EB-9ED2-402C-8106-3F185A3C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CBB6-A60A-4E19-939C-8A1DA265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2696-A2FD-4E60-B91C-A8EAC2BE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52B3-3A7C-4118-B377-87EA0133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6F8-653B-4223-9397-8378915D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B1EA-684C-4B18-8EE2-260231C0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6691-A720-4883-B588-45E96015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6A57-768A-4734-83BE-0F532027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D05D-79B1-434F-B308-997DE2CE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0B0A-B185-438E-B48B-44CBBD40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F35-EC02-4631-85FE-D92F178D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9C3-92ED-48E5-BD2A-C67F11B3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D5D-6B6E-4E93-86F1-6522BCB7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DCD-9B30-4DD6-823F-A7D0AC4D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77A-D18B-49D0-BAB1-4F354F95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073-5629-4493-9FA1-6E32AFF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F3D-171C-4FDE-9947-35319036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D319-8D1A-4373-8638-8503C03D46BC}" type="datetime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83D9-8D33-44E5-B647-9E1D819DA29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904F-9B9C-4628-ADE1-411E96A0093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112E-143F-4857-8D49-565D78D191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A dpmjet use repor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4108320" cy="2381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43000" y="3124080"/>
            <a:ext cx="2362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316400" y="4011480"/>
            <a:ext cx="3220920" cy="2141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486400" y="4267080"/>
            <a:ext cx="1689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lack:from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Red:from suppress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Q2 suppression factor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09480" y="1143000"/>
            <a:ext cx="4314960" cy="1438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105520" y="2209680"/>
            <a:ext cx="3276360" cy="135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803-8D71-4D8D-B2CE-57A0A9318F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8A08F-F9EA-486B-AD81-6E60919E5D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0" y="1305000"/>
            <a:ext cx="6267600" cy="1419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86000" y="2905200"/>
            <a:ext cx="5524560" cy="12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33520" y="4743360"/>
            <a:ext cx="3933720" cy="1276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" y="228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 element for direc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53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995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304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2 involved in hard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762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41911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57C-4B10-4825-A5A5-E7377261B4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D09F1-F097-49A0-B8CF-FE4D885BFF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35600" y="3797280"/>
            <a:ext cx="3903480" cy="267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3903840" cy="26863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876920" y="689040"/>
            <a:ext cx="3949560" cy="2663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1520" y="685800"/>
            <a:ext cx="3930480" cy="268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57400" y="13824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619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out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26232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110040"/>
            <a:ext cx="190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out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120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0FE-35C3-4CB2-A01D-368E0C05396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58565-DA35-4A0F-A6AA-7EF89436F2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pplic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For very low Q2, LO DIS process vanishes, the Q2 evolution factor for the hard process might not be so significan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Include those Q2 part for the direct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Modify this Q2 suppression factor in dpmj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Link Pythia with nuclear PDF and combine it with the nuclear fragmentation from dpmj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324-BCFD-453F-8F8A-24F1CD2C5D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ADBAD-C341-4912-A61B-0C4DDA25BF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blems found in Dpm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omic Sans MS"/>
              </a:rPr>
              <a:t>Photon Flux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omic Sans MS"/>
              </a:rPr>
              <a:t>Fixed by using some new way of flux gen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omic Sans MS"/>
              </a:rPr>
              <a:t>Sub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omic Sans MS"/>
              </a:rPr>
              <a:t>LO DIS missing in Dpmj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omic Sans MS"/>
              </a:rPr>
              <a:t>Q2 suppr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omic Sans MS"/>
              </a:rPr>
              <a:t>No Q2 dependence for the direct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pplic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B89-F195-454A-9559-41A3629017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38542-4E10-41DB-812F-1FB8323417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Photon flux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971880" cy="600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4343400" cy="542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28800" y="1752480"/>
            <a:ext cx="3049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890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29200" y="1614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70520" y="237636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 by 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70520" y="304812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1920" y="37339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 by Q2 factor under certai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671800" y="130968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1919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833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63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614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y Q2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99320" y="2757600"/>
            <a:ext cx="158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a weight according to y and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237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45864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12080" y="3622680"/>
            <a:ext cx="1231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ad cross section from a table generated by ph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3581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6320" y="4876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2722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 by cross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5280" y="534672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weight with cross section and cut this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8520" y="13096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5280" y="11574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13560" y="11574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5181480"/>
            <a:ext cx="4114800" cy="106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0384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5638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fixed q2 an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143000"/>
            <a:ext cx="4572000" cy="5486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2440" y="1677960"/>
            <a:ext cx="4337280" cy="25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FEE-F565-4CE5-83B4-ABB9A2250E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B179A-2DF0-47A4-886F-502D2153F4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89560" y="146160"/>
            <a:ext cx="3602160" cy="2444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10080" cy="2478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3629160" cy="243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24560" y="4410000"/>
            <a:ext cx="361944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652840" y="2133720"/>
            <a:ext cx="329076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447920" y="266688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905120" y="24379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3600" y="2361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552720" y="243828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9765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hoton flux (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hoton flux 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514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752480"/>
            <a:ext cx="20574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867280"/>
            <a:ext cx="2361960" cy="83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1AD-5400-4FD4-9BB1-20D53B46BE5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C2A55-6723-4115-A16B-69246B2D21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00600" y="977760"/>
            <a:ext cx="3957480" cy="2648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13200" y="4025880"/>
            <a:ext cx="3949920" cy="2679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04920" y="963720"/>
            <a:ext cx="3967200" cy="2681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04920" y="4025880"/>
            <a:ext cx="3930480" cy="266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057400" y="59544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595440"/>
            <a:ext cx="190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out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71952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643200"/>
            <a:ext cx="190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out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649-BD94-4966-ADFA-5003C528333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99535-69C0-4083-AF0B-622F313850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Comic Sans MS"/>
              </a:rPr>
              <a:t>Subproces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953240" cy="320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038760" cy="5610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9520" y="2362320"/>
            <a:ext cx="297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90920" y="1371600"/>
            <a:ext cx="2819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191120" y="1371240"/>
            <a:ext cx="12189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167652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952880"/>
            <a:ext cx="281952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19520" y="2286000"/>
            <a:ext cx="2590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600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pmje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360-CCDC-4E77-BB02-F249BC7099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06CC8-BACF-4645-B9A7-F8A0C9C197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515280" cy="4400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00800" y="5791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LOD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920"/>
            <a:ext cx="2438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YTHIA sub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&lt;Q2&lt;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01&lt;y&lt;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952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0"/>
            <a:ext cx="2438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9.8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F:5.42%+1.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CDC:2.17%+1.0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91520" y="1143000"/>
            <a:ext cx="761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stic:5.6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Diff:3.25%+2.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 Diff:2.0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NDiff:6.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952520" y="1447560"/>
            <a:ext cx="8384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819520"/>
            <a:ext cx="29718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828800" y="4038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sol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56272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ard=Direct+Resolved+</a:t>
            </a: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LODIS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=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Soft=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2AE-CF45-4051-A1A4-83A23FC55E9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020CE-3F4F-420A-AA5A-3531A8D006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64767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705720" y="228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315200" y="685800"/>
            <a:ext cx="3049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852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 Diff:2.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552720" y="121896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Diff: 7.1%+0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472428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6019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Diff: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80060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stic:1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26672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46483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60020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nDiff: 85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resolved):2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ft:8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361960" y="19047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76320"/>
            <a:ext cx="2438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PMJET sub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&lt;Q2&lt;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01&lt;y&lt;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24280"/>
            <a:ext cx="3200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ard=Resolved+Direct=4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Some diffractive events are also hard diffractive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2587680" cy="1791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flipH="1">
            <a:off x="2361960" y="396252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80880" y="28195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219320" y="2361960"/>
            <a:ext cx="30456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505320"/>
            <a:ext cx="175248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FE5-4DB2-4D44-A4BD-98194063093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79A83-A2E5-43E4-AD41-961A87C32A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4222800" cy="2905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4222800" cy="2908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44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 comparison of final state particles( no photons) from dpmjet and pythia for some certain sub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16765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events other than hard generate a lot of final state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858000" y="2437920"/>
            <a:ext cx="8380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09480"/>
            <a:ext cx="35812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ummary of subproc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pmjet      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irect        2%          9.86%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esolved   2.4%      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iff          10%           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oft NonDiff   83%      6.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ODIS        Not found     %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53341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43400" y="5486400"/>
            <a:ext cx="3733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6019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ore final state particles are generated from dpm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2C0-09A0-4A73-85CF-70F599C16B6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9F049-5AAE-412B-B7A6-13C1AB1F99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03:38Z</dcterms:created>
  <dc:creator>liang</dc:creator>
  <dc:description/>
  <dc:language>en-US</dc:language>
  <cp:lastModifiedBy>liang</cp:lastModifiedBy>
  <dcterms:modified xsi:type="dcterms:W3CDTF">2012-01-12T17:49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